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E1BD-ED53-4D58-BC81-35B5EEF7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CB6F-DFB4-4C4F-9EC4-C901196F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0F5-73F1-421E-B3A5-6354FC8E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18F-34CB-4DED-8E4C-ADB7E9D1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6DF4-8F91-4CF7-8755-E03F3C02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D97B-44FB-4103-8CAE-225C0FF5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1211-49CD-418F-8D69-11514337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B48C-49B8-4C65-BA99-65A272ED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EF7F-D6C3-4F2C-BE59-A163E88D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C56F-E084-4F7A-9C7E-3BDBE693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7F65-41AA-4DED-9E07-30C1E870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DC70-A033-4C81-9C85-6A2DD5FA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E4FF-8976-4C9E-A667-E58BB6DB5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5055779qkbiYEjTVl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974880" y="5638680"/>
            <a:ext cx="123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ا آتي بطيبي فوقَ شعرِكَ، هبني الآنَ أعرفُ حقَّ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درِ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ِوَضاً عن شوكي في إكليلِك، واتْكِئَنَّ رأسي على صدرِ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5055779qkbiYEjTVl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660680" y="5638680"/>
            <a:ext cx="128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 كَسرتَ قلبَك من أجلي أنا،ها قارورةَ الطيبِ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كسرُها ه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َ قدَميكَ وأدهِنهم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حيث راحتي.. لا ولا ع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5055779qkbiYEjTVl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33200" y="5715000"/>
            <a:ext cx="1137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يكن في قلبي شريكٌ ل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ك كلُّ حبي، لكَ وحد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لينكسِر قلبي ليشبَع قلبُكَ وكلُّ شهوتي في مجدِ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5055779qkbiYEjTVl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634760" y="5715000"/>
            <a:ext cx="130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دعني أُتلِف نفسي عند قدميكْ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أُحظى دواماً بملءِ نا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ظر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أسعى ضعيفا وأستند علي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حتى كلُّ المجدِ يرجِعَن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5055779qkbiYEjTVl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2497680" y="5699160"/>
            <a:ext cx="140079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دعني أُكرم اسمكْ وأَرفَعْهُ الآن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ِئَلا تمضي الفرصة وينت</a:t>
            </a:r>
            <a:r>
              <a:rPr b="1" lang="ar-SA" sz="35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ي الز</a:t>
            </a:r>
            <a:r>
              <a:rPr b="1" lang="ar-SA" sz="3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ن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مريم وحدَها قد فازت بالنيشان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طيبُ المريماتِ فاتَهُ الأوان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8:52:49Z</dcterms:modified>
  <cp:revision>2</cp:revision>
  <dc:subject/>
  <dc:title>PowerPoint Presentation</dc:title>
</cp:coreProperties>
</file>